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E10-0A15-4E41-9FEC-8E7A4FCC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77B2-B9BC-4776-B47B-EC4C8442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E40-95F0-4BE6-B173-0058834D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2D1-D005-4860-AFF5-919A7634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820-859C-4D95-9481-1113443C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00B7-3C61-42AD-89EF-BE2F3C7E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760-6E4E-4725-BEF5-0D425172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9BE-0B51-43E9-8779-C3D2DA82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892-8771-4F40-B93F-81FAE642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7280-688F-4E6C-8D30-DACC0EEE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62D0-84D9-4AA1-841B-4B1F6B69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6C5-6574-4278-92BF-704E4C21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A592-81BB-4A95-8930-864A0FF99AD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dom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Jacks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Freedom rests on more political participation for the average white farmer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 Use broad presidential power outside of war to accomplish this (Trail of Tears, Veto the Bank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Lincol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Freedom rests on freedom to labor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 Broadly define Presidential War Time Powers to accomplish this by ending slavery (Civil War &amp; Emancipation Proclamatio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Radical Republican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Freedom rests on the possession of Civil Rights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 Expand the authority of the National Government and Empower Congress with the ability to pass Civil Rights Legislation (Reconstruction Amendment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Progressi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Freedom rests on economic fairness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 State and national governments need to promote laws that limit the power of corporations and promote the rights of work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Franklin Roosevel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Freedom relies on economic security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 Expand the national government and its powers to intervene in both the national economy and our personal economies to achieve macro and micro level economic secur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In so doing, recast the idea of freedom by linking it the expanding power of the nation-state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Changing Federal Authority in the 1960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The 1960s represents the next wave of growth and expansion of federal authorities in modern US histo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Made possible by the policies of two p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John F. Kenne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he New Front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Lyndon B. Johns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he Great Socie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Outlines a new philosophy 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the role of gover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Tremendous expansion in the siz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of the gover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5605560" y="3276720"/>
            <a:ext cx="3568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Lyndon John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560" y="1219320"/>
            <a:ext cx="4800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1908-197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From Tex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Was a teacher prior to getting involved in politic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First comes to office by way of succession, but runs on his own and wins election in 1964 by a significant margin over Barry Goldwa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One of only 4 people to be a Representative, Senator, VP, and Presiden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Mixed presidential legacy: impressive civil and economic rights agenda contrasted with the Vietnam disas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5529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7640" y="7920"/>
            <a:ext cx="91440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Johnson’s Great Society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ackage of domestic poli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proposed betwe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1965 and 1968 to deal with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variety of social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economic problems fac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United St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Civil Rights, Education, Poverty, Environment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435 bills pushed through Congress dealing with these problems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LBJ able to do so much beca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Didot"/>
                <a:ea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Landslide Lyndon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  <a:ea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 1964 election swept Democrats into majority in both houses, enormous mandate for LBJ (61% pop. vo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Kennedy legacy and assass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4876920" y="762120"/>
            <a:ext cx="42670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rcRect l="1158" t="0" r="1158" b="0"/>
          <a:stretch/>
        </p:blipFill>
        <p:spPr>
          <a:xfrm>
            <a:off x="-4680" y="60948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at is the Great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193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We will listen to &amp; read a commencement address given by Johnson at the University of Michigan in which he outlines the goals of the Great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As you watch &amp; read take notes on the programs and goals Johnson outlin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143680" y="1828800"/>
            <a:ext cx="4000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Legislative Accomplishments of the Great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ake a look at a list of </a:t>
            </a:r>
            <a:r>
              <a:rPr b="0" i="1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 of the legislative accomplishments Johnson achieved as part of the Great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eat Society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520" y="10666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hat is the Great Socie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hat is the philosophy on the role of federal authority Johnson articulates through the Great Socie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Is Johnson using federal authority to promote democrac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es Johnson’s view of federal authority/democracy compare with past er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Other Points to Add to Johnson’s Philosophy of Gover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If these didn’t come up, we should also note tha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moves the government to one that reacts to social/economic problems to one that is proactive in dealing with social/economic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How can we stop the problems before they star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Job Training, Head Sta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defines the definition of nee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Needy are not just the disabled and the aged, needy are also the poor (whether they work or no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Medicaid, HUD and Ren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Broadens the definition of “citizen” – who the government is responsible to: blacks, women, immigrants, the poor –those who do not have a voic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3:49:28Z</dcterms:created>
  <dc:creator>US</dc:creator>
  <dc:description/>
  <dc:language>en-US</dc:language>
  <cp:lastModifiedBy>Crystal Bartels</cp:lastModifiedBy>
  <dcterms:modified xsi:type="dcterms:W3CDTF">2015-12-03T20:25:01Z</dcterms:modified>
  <cp:revision>49</cp:revision>
  <dc:subject/>
  <dc:title>The Great Society</dc:title>
</cp:coreProperties>
</file>